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2"/>
          </p:nvPr>
        </p:nvSpPr>
        <p:spPr>
          <a:xfrm>
            <a:off x="3884760" y="0"/>
            <a:ext cx="291600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6560" cy="3373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0960" cy="40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91600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20C8C-1D41-4F9F-88D8-30DD89776F42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685800"/>
            <a:ext cx="455292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685800"/>
            <a:ext cx="4549680" cy="34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2652BE-EC14-4F6C-B6C9-372BD546292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685800"/>
            <a:ext cx="4521240" cy="337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85800"/>
            <a:ext cx="4521240" cy="337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85800"/>
            <a:ext cx="4556160" cy="341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3000" y="685800"/>
            <a:ext cx="4546440" cy="34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43000" y="685800"/>
            <a:ext cx="4532400" cy="338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43000" y="685800"/>
            <a:ext cx="4554360" cy="34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685800"/>
            <a:ext cx="4557600" cy="34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685800"/>
            <a:ext cx="454824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143000" y="685800"/>
            <a:ext cx="4524480" cy="338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240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9948-FC8C-44B8-BC28-62E866EA8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1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1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5ECB7-892F-46F5-A58E-79A641991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0040" y="419220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73E39-257A-4AC1-AE59-C33A5B2BA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080" y="198072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4360" y="198072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080" y="419220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4360" y="4192200"/>
            <a:ext cx="2484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2693-6567-4723-A63D-D3DE0378E2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16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397A-CBDB-460D-8BC5-1C7D02AF83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16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0B7A1-CA8B-44CA-9B62-9C0C0F3CC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026C-4D8F-4464-96BC-ED9893CAE4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2C88-FAFC-401C-8CA9-4F72BD83B4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16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EF30B-184B-4FC0-B0C4-233531C49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F945-EDA4-44A2-BBAD-54AC77A3D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0040" y="419220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258B9-9C08-4385-B7A0-2EA63A87E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0040" y="1980720"/>
            <a:ext cx="3765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16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C03D-24F4-49DE-B0D7-56E7F7BE8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16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849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B16E0-AF17-451D-B3E0-C23C423123B1}" type="slidenum"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5219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1079640"/>
            <a:ext cx="8099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r. Philipp Hartma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A Cobrança pelo Uso da Água 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Instrumento Econômico n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82920" y="575928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08000" y="3743280"/>
            <a:ext cx="7380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Estudo Comparativo e Avaliação Econômica dos Modelos de Cobrança pelo Uso da Água Bru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  <a:ea typeface="Lucida Sans Unicode"/>
              </a:rPr>
              <a:t>Propostos e Implementados 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asília CTCOB, 29 de abril de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7280" y="79200"/>
            <a:ext cx="8407440" cy="67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079640" y="2700360"/>
            <a:ext cx="66592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r o Princípio Usuário/Poluidor Pagador (PUP/PPP)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xa ambiental para internalizar os custos 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1619280"/>
            <a:ext cx="648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ocação óti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9640" y="720720"/>
            <a:ext cx="828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lidade da política ambie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m vez de solu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"ótima" → solução custo-efetiva (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0720" y="2160720"/>
            <a:ext cx="7740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termin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politica de objetivos → atingir objetivos ecológicos ao menor custo social possí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9280" y="4643280"/>
            <a:ext cx="738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eito incitativo de instrumentos econô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20720" y="3311640"/>
            <a:ext cx="66657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xa ambiental: internaliz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parcial de cu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ais desconhec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7640" y="426960"/>
            <a:ext cx="781200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1280" y="1008000"/>
            <a:ext cx="4507200" cy="3606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0" y="1079640"/>
            <a:ext cx="4397400" cy="3519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60360" y="5400720"/>
            <a:ext cx="86407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ficiência econômica = minimizar custos d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7640" y="426960"/>
            <a:ext cx="781200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5335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rança incitativa e de financiamento (Cánepa/Pereira/Lanna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5048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900000" y="503280"/>
            <a:ext cx="719928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Taxa/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/impost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ambiental = pagamento por unidade usada do bem ambiental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79640" y="216072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internaliza custos ambientais → PUP/PPP → reflete (parte do) valor econômico do bem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79640" y="3132000"/>
            <a:ext cx="7559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efeito incitativo → mud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 de comportamento por parte do usuário (compara custo de taxa e red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44720" y="4222800"/>
            <a:ext cx="701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efeito financeiro – gera rece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19280" y="306072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40720" y="2879640"/>
            <a:ext cx="1810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99280" y="4140360"/>
            <a:ext cx="181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-179280"/>
            <a:ext cx="702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6360" y="5580000"/>
            <a:ext cx="8099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implementa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prática: cobrança pelo uso da água br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82480" y="973080"/>
            <a:ext cx="7848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00ae00"/>
                </a:solidFill>
                <a:latin typeface="Arial"/>
                <a:ea typeface="Times New Roman"/>
              </a:rPr>
              <a:t>Objetivos segundo as leis brasileiras:</a:t>
            </a:r>
            <a:r>
              <a:rPr b="1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nalizar valor econômico real do recurs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→ internalização de custos ambientais – PUP/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ução de um uso racional 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vocar mudança de comportamento do usuário através do preço do recurs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r recurso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 a gestão dos recursos hídricos → efeito colateral; grande importancia na prática e para a viabilidade polí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bran</a:t>
            </a:r>
            <a:r>
              <a:rPr b="1" i="1" lang="de-DE" sz="2400" spc="-1" strike="noStrike">
                <a:solidFill>
                  <a:srgbClr val="ff0000"/>
                </a:solidFill>
                <a:latin typeface="Arial"/>
                <a:ea typeface="Arial"/>
              </a:rPr>
              <a:t>ça consegue atingir estes objetiv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7120"/>
            <a:ext cx="70106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 cobra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 pelo uso da água bruta 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0000" y="1152360"/>
            <a:ext cx="7920000" cy="44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s pelo uso da água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íba do Sul / PC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tado Rio de Jan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ão Pa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ará (desde 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to “Águas do Vale” (CE, Rio Jaguaribe 200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tes propostas de metodologias, p.ex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p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s ótimos", "STÁgua", Cobr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incitativa e de financiamento, Cobr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em fu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da escassez de outorga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20720" y="1079640"/>
            <a:ext cx="738036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1. Algumas Considera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ões Econô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Visão econômica do valor ambien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de taxas ambient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060720"/>
            <a:ext cx="770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2. As cobra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s pelo uso da água bruta no Bra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 Algumas Críticas gerais do ponto de vista da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1079640"/>
            <a:ext cx="7740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da cobrança = unidade de uso (m³/kg DBO) * preço unitário * fator(es) de multipl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79640" y="2700360"/>
            <a:ext cx="774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eita, efeito incitativo, custo-eficiência e PUP/PPP dependem dos valores e ponder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dos fa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539640"/>
            <a:ext cx="7199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íticas à realidade das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efeito financ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7600" y="1871640"/>
            <a:ext cx="54835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oco na receita – remediar em vez de pre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2629080"/>
            <a:ext cx="7885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ceita demasiado baixa par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uciona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25360" y="3494160"/>
            <a:ext cx="7572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lema: receita vs. efeito incitativ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xa ambiental ideal privar-se-í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a sua fonte de ta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360360"/>
            <a:ext cx="8155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lema: efeito financeiro vs. 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03640" y="1081080"/>
            <a:ext cx="4078440" cy="46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76360" y="1474920"/>
            <a:ext cx="7559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feito incitativo depende de elasticidade-pr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o → pesquisa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ε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onsider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ção na cobra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2720" y="2340000"/>
            <a:ext cx="77407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lores muito pequenos 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geram incentivo signific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6360" y="321624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erenci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os valores segundo usuários ini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6360" y="5183280"/>
            <a:ext cx="7020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entivo 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está no foco de ate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tencial custo-eficiente da cobrança não é aprovei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36036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íticas à realidade das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12720" y="4140360"/>
            <a:ext cx="71992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de-DE" sz="2400" spc="-1" strike="noStrike" baseline="-33000">
                <a:solidFill>
                  <a:srgbClr val="000000"/>
                </a:solidFill>
                <a:latin typeface="Arial"/>
              </a:rPr>
              <a:t>cap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m fu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e outorga e valores medios reduzem incentiv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533520"/>
            <a:ext cx="8382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ança incitativa e de financ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76440" y="150480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22960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39640" y="36036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íticas à realidade das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6360" y="1619280"/>
            <a:ext cx="738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entivo para consumidor final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6040" y="2205000"/>
            <a:ext cx="7907400" cy="44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00000" y="1403280"/>
            <a:ext cx="719928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2382840"/>
            <a:ext cx="792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a de cobra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a ou valor demasiado 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ação de externalização de custos 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9640" y="539640"/>
            <a:ext cx="7199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ríticas à realidade das cobran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no Bras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 falta de implementação do PUP/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5080" y="4464000"/>
            <a:ext cx="7019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ciação de valores segundo critérios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subsídio para determinados setores usu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subsídio "ambiental" e financeiro (via custos de oportunidad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40000" y="3382920"/>
            <a:ext cx="665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alta de cobrar valor real da água = subsídio de usuários atuais (a custo de usuários futu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720" y="1440000"/>
            <a:ext cx="86410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valores baixos, falta de considerar peculiariedades de cada bacia  → 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sinaliza valor real econômico da á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dur="indefinite" fill="hold">
                      <p:stCondLst>
                        <p:cond delay="indefinite"/>
                      </p:stCondLst>
                      <p:childTnLst>
                        <p:par>
                          <p:cTn id="1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1079640"/>
            <a:ext cx="828036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rgumento: baixa capacidade de pagamento → resistências → diferenci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os valores da cobranç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↔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a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vitar efeitos sociais negativos e confl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a subídios/compen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ões financeir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19280" y="3743280"/>
            <a:ext cx="7199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i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ão do 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ubsídio como incentivo via "cobra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ça negativa" ou internalização de benefício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20720" y="4896000"/>
            <a:ext cx="7199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- programa "produtor de agu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"Wasserpfennig" na Aleman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Projeto </a:t>
            </a: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Águas do Vale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- Sistema francê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0720" y="2808360"/>
            <a:ext cx="80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se abre mão do efeito incitativo mas sim se reforça ele! (caso extremo: saldo zero, incentivo dup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9640" y="360360"/>
            <a:ext cx="792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lema: intereses ambientais vs. intereses soc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dur="indefinite" fill="hold">
                      <p:stCondLst>
                        <p:cond delay="indefinite"/>
                      </p:stCondLst>
                      <p:childTnLst>
                        <p:par>
                          <p:cTn id="1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dur="indefinite" fill="hold">
                      <p:stCondLst>
                        <p:cond delay="indefinite"/>
                      </p:stCondLst>
                      <p:childTnLst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79640" y="971640"/>
            <a:ext cx="594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"água virtual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800360" y="1573200"/>
            <a:ext cx="595944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079640" y="755640"/>
            <a:ext cx="70196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min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ção dos valores não em função do dano econômico nem do efeito incitativo desejado, mas da receita desejada ou modelos pre-existentes (RS 0,01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petu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ão do princípio "remediar em vez de previr" ("fazendo vaquinha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ceita atual muitas vezes nem alcança para consertar danos de maneira 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alta de efeito incitativo (ineficiê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aplicação da receita custo-eficiente? (Caso não = desperdiço de recur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522144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"subsídio ambiental":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ternalização de cust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dur="indefinite" fill="hold">
                      <p:stCondLst>
                        <p:cond delay="indefinite"/>
                      </p:stCondLst>
                      <p:childTnLst>
                        <p:par>
                          <p:cTn id="1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12720" y="1295280"/>
            <a:ext cx="846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o do meio ambiente → efeitos ecológ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ustos econômicos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em caso de bens escass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9440" y="2556000"/>
            <a:ext cx="702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guem tem que "pagar a cont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3959280"/>
            <a:ext cx="756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20720" y="757080"/>
            <a:ext cx="755964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os automáticos dos valores ? (desde 2003 red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ão significativa dos valores → cf. modelo STÁgua, Rio Do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ito psicológico da cobr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ça → PUP/PPP (visão econômica  → visualizar custos invisívei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apel da ANA? / Uniformização de metodolo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aior variação dos preços unitários, fatores de multiplicação? (razão dos valores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ecessidade de medidas flanqueadoras para efeito incit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→ →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sponsabilidade social, princípio preca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"pagar para preservar!" - 3 objetivos das leis de RH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319640"/>
            <a:ext cx="181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dur="indefinite" fill="hold">
                      <p:stCondLst>
                        <p:cond delay="indefinite"/>
                      </p:stCondLst>
                      <p:childTnLst>
                        <p:par>
                          <p:cTn id="2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fill="hold">
                      <p:stCondLst>
                        <p:cond delay="indefinite"/>
                      </p:stCondLst>
                      <p:childTnLst>
                        <p:par>
                          <p:cTn id="2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785960" y="695160"/>
            <a:ext cx="52149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Obriga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download gratuito do liv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A COBRANÇA PELO USO DA ÁGUA COMO INSTRUMENTO ECONÔMICO DA POLÍTICA AMBIE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 u="sng">
                <a:solidFill>
                  <a:srgbClr val="2d2db9"/>
                </a:solidFill>
                <a:uFillTx/>
                <a:latin typeface="Arial"/>
              </a:rPr>
              <a:t>www.phartmann.de/livr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contato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philipp@phartman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859280" y="3959280"/>
            <a:ext cx="3959280" cy="270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80000" y="1260360"/>
            <a:ext cx="3600360" cy="24908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12760" y="1079640"/>
            <a:ext cx="428616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20720" y="539640"/>
            <a:ext cx="3959280" cy="2519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41800" y="336600"/>
            <a:ext cx="3417840" cy="2363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319640" y="2879640"/>
            <a:ext cx="4657680" cy="33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030320" y="2813040"/>
            <a:ext cx="2751120" cy="36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81000" y="720720"/>
            <a:ext cx="2438640" cy="1627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390840" y="147600"/>
            <a:ext cx="3810240" cy="2552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60280" y="2160720"/>
            <a:ext cx="4600800" cy="3066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3419640" y="3052800"/>
            <a:ext cx="5448240" cy="306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2778120"/>
            <a:ext cx="71992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ferentes metodologias de valor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e custos e benefícios ambienta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440000"/>
            <a:ext cx="66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rnaliz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de custos ambient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36720" y="4427640"/>
            <a:ext cx="648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ternaliz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custos →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oca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ção subótima dos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720720" y="-360360"/>
            <a:ext cx="1152036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760" y="108000"/>
            <a:ext cx="8351640" cy="669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7T13:37:13Z</dcterms:created>
  <dc:creator>Administrator</dc:creator>
  <dc:description/>
  <dc:language>en-US</dc:language>
  <cp:lastModifiedBy>flumen</cp:lastModifiedBy>
  <dcterms:modified xsi:type="dcterms:W3CDTF">2009-03-05T01:36:45Z</dcterms:modified>
  <cp:revision>217</cp:revision>
  <dc:subject/>
  <dc:title>PowerPoint-Präsentation</dc:title>
</cp:coreProperties>
</file>